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7C6D-140C-4771-A482-92FF0B9F47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E4B3-92BB-4FF3-AE25-057E68095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BAF8ACD-B81F-4474-A4C2-068C6C63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9C24-BFBA-41C8-96D3-E92CCA461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8CAB-396A-4167-8F17-8AB01202A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CCCD-1180-40AC-B956-FC7A16E45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891B-FC48-4580-8895-43AE55E4C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C1EF8-0CA7-463F-B9D1-99E3E6DB9A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B0DF9-4BCC-42F0-80F9-CCFCCE8609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CB5FE-E101-4FAC-B81F-63BEC5E9C4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E6566-D454-49BA-B7A0-C46EA15520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38D48-7FFD-4AD7-BFF4-281B54C4CB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BD20E-9E00-44A7-971A-D06398BD6F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4ACDF-863E-4052-9EFD-C20A7F09F0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8270-3A40-4CE8-932B-AB3E50BC4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46F89-604E-4299-B041-5C7253CACB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AEBF3-8835-4A51-BB44-950ED99A16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53E2C-2182-40B3-ACA9-CC4C35BFC9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E4155-F628-4E9F-8981-CF0619355E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48ABD-493E-4DB1-8F85-092C3D8C50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0631-5F9D-470A-992D-B4F5FDB90A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3B76-9B32-4167-8964-A0E6067BA1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1F84-73D5-49AA-A6A5-15C95F9F51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1EA4-3134-4F44-91B9-DB1446ED04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8A71-661A-4F2B-BCA5-B3C45BD46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BFF4-0FDC-454A-93C6-8618DA6343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92E7-43E8-4161-A151-A06BEF881B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2D63-B05E-44B8-9520-963638D53C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7D29-020A-44E7-A242-0CF97E1462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D8B0-5E1B-4C23-8974-446CB09F8B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6D9E-27D1-4D1E-B74D-ABA80E1267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49B9-F850-4967-9B47-06287AAB63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57B4-6C8D-4955-AD76-5FB2E34C16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19D2-83C3-4709-8EC2-6AAF43CD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E5AC8-1468-4625-89D2-8AA216F9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C140-337F-4407-84A8-E902F07A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E067-E15D-4E24-90EF-A39F7AEA30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FE5F-DC3F-4048-825C-62F4C90B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41B8-B281-42D1-A389-EEC5D810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F59D-00FE-4BF9-971C-38D009C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8DF7-F911-4845-86EA-98BA147A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0650-8CDB-4B05-A612-83E45016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B9B2C-0FB3-4C69-B939-FF069544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4D09-ACB3-4E42-BAAA-129547BB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D2CC-509D-4271-B32C-F10C3F21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15A81-5C28-4981-9308-09918557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6DE1C-B284-484D-B7C2-C162003C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2FFE-F5D6-40C7-9232-F6263B63E7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418F-0D88-44CE-A5D1-A25C7419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B989C-2350-46A5-90F1-C61B1E85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408D7-390E-4811-8153-4F703163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370DD-9A05-4258-92A8-F33A8B79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6C257-57E3-443C-9C2F-5FA0A13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3F0E-5706-42C9-AF50-8992335D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6FEA-5727-4ACA-A8FD-3B36D3E0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A18F7-F59C-4CC9-8D61-F736AE9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6302F-5805-48FD-B4B2-4B56AB02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F5A6-A4AF-4D99-A1D7-A0F08171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DFD3-8069-4269-BDCA-A6CED61498D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D96E-7B02-466E-B893-8E846882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52625-A66B-483C-84BB-81EA2B84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C29E2-0100-4AD6-9D82-5CBBBCB9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FDA61-A2EA-4D4E-B6A3-11D4D355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5AD0C-34F7-45D2-963A-2640E9F7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B9E78-5B7A-4795-AA02-18EABD99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67952-979C-4D46-A59C-5646A4F1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B13B0-E28D-4DAE-A27C-647EAA3E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94DC7-640F-4768-9C25-140A9B96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12F13-5764-4B89-A4BA-8DECEC07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FF99-A0AA-4DB2-8A83-84EC20FC602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28848-A0AA-4454-A9B0-291DA101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94485-EB5D-42BB-A6C9-0779A98E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89AFB-6F03-4E98-A809-1A42800E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E1FE-D3A8-4FEB-B573-A2C5E989B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8BEB-38A8-4362-9BC7-1DADE9F7D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95B1-14CB-4112-8C7A-9748ACD76D3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4F8A-D62B-42A8-AB05-296BC409895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6C55-6A73-42A2-A8D4-5CE1B821D4D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CA7A-587F-41A2-AA34-C996739C48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6803-0ECF-496D-AF11-9E488C0659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0845-E69E-4E38-A326-AB986E96B7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4800" y="774720"/>
            <a:ext cx="842832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Design of Digital Circuit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 Guidelines on Paper Review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7 March 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Do the Paper/Talk Review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90180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1: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Summar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is the problem the paper is trying to solve?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are the key ideas of the paper? Key insights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are the key mechanisms? What is the implementation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are the key results? Key conclusions?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2: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Strengths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most important ones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oes the paper solve the problem well? Is it well written? </a:t>
            </a:r>
            <a:r>
              <a:rPr b="0" lang="is-IS" sz="19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3: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Weaknesse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(most important ones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s is where you should </a:t>
            </a:r>
            <a:r>
              <a:rPr b="0" lang="en-US" sz="1900" spc="-1" strike="noStrike">
                <a:solidFill>
                  <a:srgbClr val="ff0000"/>
                </a:solidFill>
                <a:latin typeface="Tahoma"/>
              </a:rPr>
              <a:t>think critically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 Every paper/idea has a weakness. This does not mean the paper is necessarily bad. It means there is room for improvement and future research can accomplish this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4: Can you do (much) better? Present your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thoughts/idea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5: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Takeaways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: What you learned/enjoyed/disliked? Why?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6: Any </a:t>
            </a:r>
            <a:r>
              <a:rPr b="0" lang="en-US" sz="2100" spc="-1" strike="noStrike">
                <a:solidFill>
                  <a:srgbClr val="0432ff"/>
                </a:solidFill>
                <a:latin typeface="Tahoma"/>
              </a:rPr>
              <a:t>other comments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you would like to mak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view should be short and concise (~one page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4B66-9795-4128-81C3-17943D4DB79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dvice on Paper/Talk Review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doing the reviews, be very crit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think about better ways of solving the problem or related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 the problem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how things progress in science and engineering (or anywhere), and how you can make big le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critical analy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ple reviews provided 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B2BC-03BA-404E-B1E5-F6C81357D88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9:09:31Z</dcterms:created>
  <dc:creator>Onur Mutlu</dc:creator>
  <dc:description/>
  <dc:language>en-US</dc:language>
  <cp:lastModifiedBy>Microsoft Office User</cp:lastModifiedBy>
  <dcterms:modified xsi:type="dcterms:W3CDTF">2019-03-08T11:48:51Z</dcterms:modified>
  <cp:revision>78</cp:revision>
  <dc:subject/>
  <dc:title>18-741  Advanced Computer Architecture Lecture 1: Intro and Basics</dc:title>
</cp:coreProperties>
</file>